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C07-2518-4FCC-A16F-CBED6A60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64D-E6CF-477A-B3CD-08022F4F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7F2-CD6C-4DF0-BA0B-7A826FB6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6FD-5A30-4ECC-9DFE-AABF8CB3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C1F-58D0-43E7-B3DD-794104AD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DAC-8225-4C21-817E-4EF3A1A6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667-43F3-4563-A2C7-E30401E0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C1E-29F9-46EB-8042-8DD4764C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BFB-D0CC-41C2-BF0A-AB6F268F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7BE-F7B2-4843-8529-90C7002B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9C6-9DC0-4EFE-8C02-CF94C678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2C2-480E-40BE-AA93-9ACD5C2E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134C8-7405-4199-9DAB-53BBCF2B94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11CEB-2F91-488F-806D-09E876919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Draw the Bohr model for Lithium (Li) which has an atomic number of 3.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ion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/Nonmetal Category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8.4 Metals, Nonmetals, and Metallo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03120" y="1600200"/>
            <a:ext cx="74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etals are located on the left and center of the periodic table.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768240" y="1828800"/>
            <a:ext cx="74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Nonmetals are located on the right of the periodic tabl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844560" y="1828800"/>
            <a:ext cx="74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etalloids are located on the “staircase” in between the metals and nonmetal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857160" y="1765440"/>
            <a:ext cx="74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s oxygen (O) a metal, nonmetal, or metalloid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0" t="8684" r="0" b="0"/>
          <a:stretch/>
        </p:blipFill>
        <p:spPr>
          <a:xfrm>
            <a:off x="857160" y="2201760"/>
            <a:ext cx="745488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 Lithium (Li) a metal, nonmetal, or metalloi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0" t="8684" r="0" b="0"/>
          <a:stretch/>
        </p:blipFill>
        <p:spPr>
          <a:xfrm>
            <a:off x="857160" y="2201760"/>
            <a:ext cx="745488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63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/Nonmetal Category Game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Write your team name on the paper you are giv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Categorize each as a metal, nonmetal, or metalloid.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When you are happy with your choices, turn them in to the substit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0:54:28Z</dcterms:created>
  <dc:creator>Caroline Roth</dc:creator>
  <dc:description/>
  <dc:language>en-US</dc:language>
  <cp:lastModifiedBy>Caroline Roth</cp:lastModifiedBy>
  <cp:lastPrinted>2011-03-28T11:19:24Z</cp:lastPrinted>
  <dcterms:modified xsi:type="dcterms:W3CDTF">2011-03-28T11:19:32Z</dcterms:modified>
  <cp:revision>4</cp:revision>
  <dc:subject/>
  <dc:title>Metals, Nonmetals, and Metalloids</dc:title>
</cp:coreProperties>
</file>